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4FB-F5FC-49FB-8E66-0F0B2803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57463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B1E-6C12-4AAB-AEBE-7B3DBFE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2996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41B-ED80-422C-B8E5-95FD94A0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1404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468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1404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8468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7B2-F1BB-4BFF-9BE1-C4DDC7CD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D832-ED08-454C-96BA-44780520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6E56-8EE8-441A-A447-4A23694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372E-5D2D-49B0-9BAA-6D8742F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40C-C673-40A7-9730-FB1F8BC2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09B3-4A16-423C-B918-0DD95DFF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3040" y="65988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7C1E-867C-43AC-937C-5BF2B45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82F-DF00-4A78-939A-04D81CF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C9-A299-4375-AB25-1001196A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2996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24DA-8B39-42D1-B4C1-2D13B92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709-39D7-4799-B0D0-1C53B19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040" y="57463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98BC-4D80-44A3-9DF1-B55E63AC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2996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D78D-C8A7-40A5-90F6-C6B8B71F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71404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4680" y="264168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4304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71404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684680" y="574632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66EA-F5D0-489A-A248-D14B4DF4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033-B9E4-45CF-949D-402EB9E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8D9-2037-4726-9E6D-E8CF8E3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6BB-39C2-490D-9F10-34A1A05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5988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6E9-CC13-4142-8C5C-51091202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171-69F1-41B0-8BFC-6FA7997C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29960" y="574632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A0E-2419-430A-B281-24803738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29960" y="264168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574632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33F-36F9-447E-BA62-E2A68F1B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800" y="881172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0600" y="881172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22440" y="881172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1EF7-12B4-4F03-A457-DC277658F88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6654600" cy="9905760"/>
            <a:chOff x="0" y="0"/>
            <a:chExt cx="6654600" cy="9905760"/>
          </a:xfrm>
        </p:grpSpPr>
        <p:sp>
          <p:nvSpPr>
            <p:cNvPr id="42" name="Rectangle 3"/>
            <p:cNvSpPr/>
            <p:nvPr/>
          </p:nvSpPr>
          <p:spPr>
            <a:xfrm>
              <a:off x="399960" y="343440"/>
              <a:ext cx="6254640" cy="9231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3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797760" cy="990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3040" y="65988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43040" y="264168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e99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21800" y="881172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50600" y="881172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5122440" y="881172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017-A0B4-4673-9B5D-88B15D2EFD1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620640" y="361800"/>
            <a:ext cx="1224000" cy="986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538200" y="1281240"/>
            <a:ext cx="613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  <a:ea typeface="Cambria"/>
              </a:rPr>
              <a:t>Филиал МАОУ Гагаринская СОШ –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  <a:ea typeface="Cambria"/>
              </a:rPr>
              <a:t>Синицынская ООШ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117440" y="6753240"/>
            <a:ext cx="4999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БУЯНОВ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АТЬЯНА  БОРИСОВ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88" name="Рисунок 7" descr="d:\Users\User\Desktop\1738135274087.jpg"/>
          <p:cNvPicPr/>
          <p:nvPr/>
        </p:nvPicPr>
        <p:blipFill>
          <a:blip r:embed="rId2"/>
          <a:stretch/>
        </p:blipFill>
        <p:spPr>
          <a:xfrm>
            <a:off x="1773360" y="2432160"/>
            <a:ext cx="352728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орь</dc:creator>
  <dc:description/>
  <dc:language>en-US</dc:language>
  <cp:lastModifiedBy>Пользователь</cp:lastModifiedBy>
  <cp:lastPrinted>2022-03-03T05:42:45Z</cp:lastPrinted>
  <dcterms:modified xsi:type="dcterms:W3CDTF">2025-01-29T07:32:44Z</dcterms:modified>
  <cp:revision>473</cp:revision>
  <dc:subject/>
  <dc:title>Визитная карточка</dc:title>
</cp:coreProperties>
</file>